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3C7-E454-4D80-8BC1-C726DA3F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B96-C727-4A0F-A60F-067B456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5A1-8434-4CEC-93E3-A165EF53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39B-2EF4-45E6-8319-9BC9E980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B80-4FF9-4854-9C93-C5F52F0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1BE3-5898-476B-ABAD-A56544DC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E517-AD65-4852-BDA3-CF6D49B5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F05-0C6D-46A5-8EF1-4B197EA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36FE-868D-4F07-ACBD-2ADD6B7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3383-B4A6-42EB-B1EE-DE7E5E31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F2B-ED19-426B-A171-7C35624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A00-6BAF-4EBC-A981-F7CDE266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22E-5ABD-49CB-B5DC-2643B30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592C-DA0C-486A-9892-0BB8BCB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ADA7-BAA8-4162-8E86-EC840C25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AB74-A68B-4E77-A746-17454AE7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49F1-4C87-4963-966B-15247A4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65E6-8282-4DF5-9699-A3FFA17A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37E4-1A59-42EA-BB89-2D924762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BFB6-E72E-46B3-83F0-81646B11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1DB8-E4E1-42C4-8FD1-3E294809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5057-FE3D-4668-BFE8-0DBB5783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170-45DA-4791-BF3F-C7A30CD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679E-6C90-498C-9170-A20FDD8C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97C6-7F4C-4D30-92F8-ED35378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B4E3-3B5F-4BB4-9604-5FBD9EB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C0C4-AF09-4A8A-BC8B-FAB027C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D59F-C9CD-4EA0-9D18-1057462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C7A8-53FC-4CDB-9413-AFEA56FB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26AD-9E2E-4349-99EF-BA39BA46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11F0-0ED9-43AA-9661-AC49B301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7AC0-3829-42BE-98AF-58CD884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372B-3875-46B8-A4D5-A1C83CAF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DCD-3021-4E86-BE64-5AEC294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21BB-1AA6-4813-A1E7-19031B4B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CB63-C6FA-4296-9458-3403489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9741-15B6-4ED1-94E1-00ED104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736B-CA6F-4A32-95FB-89FC089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7809-0D70-4D41-9F19-1042237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8A84-5FEB-4A7B-8D8D-FA0451C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DBF5-9E1C-4735-A68C-6C7C52DA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8129A-3311-4294-8DF1-CB7533DF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3A0A-DCBD-4DF0-9A89-3A990EA7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30A1-CA11-4846-8F79-F952C885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18-4A68-445D-9331-A462F98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06D18-9D09-4F05-9AEB-C9DE044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CDA2-3ED8-4663-884F-D29D24DA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5987-05C7-4E5B-B7BD-0F99D66F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2996-D22E-4240-B7BA-42807B6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ED36-F0BC-43DA-BCD0-A217A26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1838-9C62-4E06-8781-BD396729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7FA2-6AB3-4AF1-9121-A34B060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8FD7-B433-4BAE-B415-043BF86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5160F-439C-4569-A8B7-9459BD7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02A0B-9689-4CDE-86D8-5774554D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9FD-A26B-4BAA-B67E-8D819FFD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D175-AEAF-45F3-9059-01DDBA34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F6A2-7165-444D-9C7B-141F6488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BE1D-B67B-47AB-9EB5-CD582C65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89DF-9934-440F-B3C9-DFA9C4BF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FD59C-7DC1-403E-B422-9151B1A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FC62-E9D0-4684-9B76-C5EE574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E402-8113-40CD-88B4-9B47959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919A-71F3-4859-AF83-4AD07B9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93E4-9E88-4BA2-AA84-D548B20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4BC0-261C-4078-8789-4673C1B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34D-8196-47EF-B6B9-3509949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B333-FB96-4F7C-9EB5-15167D1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C73F-08AE-4C48-8B6B-718EF42A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2C57-B9A1-4A69-9FD5-2FA5CDA1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5161-7A7D-4EC8-BD5C-D6983473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FC27-3002-4F3B-A3BC-E3AD7A5A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02E7-0013-4A12-9C47-A57D5CD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1EB0C-466E-411D-B016-9A2456A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EDA1-0E5E-4D34-B464-E17099B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B0E1-BA5E-4AC7-9023-0E26BCB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E79E-F36B-4E9D-84A4-6199616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82C-6824-4CBE-97CE-C3BF3A9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E443F-9912-4FA7-9A9F-31BC52E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D520A-13F3-404D-A066-4D392A8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C6C0-0BDB-4A69-A69E-3BF4E8FB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F7CFC-F32C-4731-B8EC-68343DFE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4E07-2062-4902-A581-FFF8D40B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8D6-5E6A-4EDC-B031-42A1DB3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7F9-8F14-4803-9B55-4EA076EA8F6C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FB8-0C6E-4751-81C7-8A7A523D870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2FC-17EB-411C-ADAF-B57EC5374ADA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BE5-AD92-4A5F-94C3-6B3CDC38564E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115E-E30C-4C04-9865-9F5A02C362FC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405C-42C6-43DD-868F-80B12051D708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769B-D429-4490-BDCE-449989431307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867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exactly 25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2157480" y="2706840"/>
            <a:ext cx="96984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809960" y="324324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2120" y="3090960"/>
            <a:ext cx="987480" cy="82224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4280040" y="5297400"/>
            <a:ext cx="987120" cy="82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"/>
          <p:cNvPicPr/>
          <p:nvPr/>
        </p:nvPicPr>
        <p:blipFill>
          <a:blip r:embed="rId5"/>
          <a:stretch/>
        </p:blipFill>
        <p:spPr>
          <a:xfrm>
            <a:off x="3809880" y="114300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"/>
          <p:cNvPicPr/>
          <p:nvPr/>
        </p:nvPicPr>
        <p:blipFill>
          <a:blip r:embed="rId6"/>
          <a:stretch/>
        </p:blipFill>
        <p:spPr>
          <a:xfrm>
            <a:off x="7010280" y="114300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7" descr=""/>
          <p:cNvPicPr/>
          <p:nvPr/>
        </p:nvPicPr>
        <p:blipFill>
          <a:blip r:embed="rId7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http://www.msnucleus.org/membership/html/k-6/as/scimath/3/images/assm3_5a2.gif"/>
          <p:cNvPicPr/>
          <p:nvPr/>
        </p:nvPicPr>
        <p:blipFill>
          <a:blip r:embed="rId8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"/>
          <p:cNvPicPr/>
          <p:nvPr/>
        </p:nvPicPr>
        <p:blipFill>
          <a:blip r:embed="rId9"/>
          <a:stretch/>
        </p:blipFill>
        <p:spPr>
          <a:xfrm>
            <a:off x="1143000" y="4038480"/>
            <a:ext cx="3429000" cy="249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www.columbia.edu/itc/chemistry/chem-cf1500/labpix/images/longstemfunnel.jpg"/>
          <p:cNvPicPr/>
          <p:nvPr/>
        </p:nvPicPr>
        <p:blipFill>
          <a:blip r:embed="rId10"/>
          <a:stretch/>
        </p:blipFill>
        <p:spPr>
          <a:xfrm rot="1954200">
            <a:off x="1464840" y="128556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867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Which piece of lab equipment would you use to measure exactly 25 mL of water?</a:t>
            </a:r>
            <a:endParaRPr b="0" lang="en-US" sz="32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6" name="Rectangle 27" descr=""/>
          <p:cNvPicPr/>
          <p:nvPr/>
        </p:nvPicPr>
        <p:blipFill>
          <a:blip r:embed="rId1"/>
          <a:stretch/>
        </p:blipFill>
        <p:spPr>
          <a:xfrm>
            <a:off x="7327800" y="5224320"/>
            <a:ext cx="957240" cy="822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3" descr="http://www.msnucleus.org/membership/html/k-6/as/scimath/3/images/assm3_5a2.gif"/>
          <p:cNvPicPr/>
          <p:nvPr/>
        </p:nvPicPr>
        <p:blipFill>
          <a:blip r:embed="rId2"/>
          <a:stretch/>
        </p:blipFill>
        <p:spPr>
          <a:xfrm>
            <a:off x="6324480" y="3657600"/>
            <a:ext cx="1067040" cy="266688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6" descr=""/>
          <p:cNvPicPr/>
          <p:nvPr/>
        </p:nvPicPr>
        <p:blipFill>
          <a:blip r:embed="rId3"/>
          <a:stretch/>
        </p:blipFill>
        <p:spPr>
          <a:xfrm>
            <a:off x="993600" y="1884240"/>
            <a:ext cx="7216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4T04:19:29Z</dcterms:modified>
  <cp:revision>137</cp:revision>
  <dc:subject/>
  <dc:title>Slide 1</dc:title>
</cp:coreProperties>
</file>